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BECF-D6C4-403E-BF0A-B9FCD4C20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15B4-782D-48C7-BB5F-E2498563D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9BEA-469D-4D37-B694-B168F6971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32100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96736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7464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32100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96736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5D47-C84A-4208-8CAC-B4385F24F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B7E0C-42BE-4A74-9908-FC917CD18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EFD10-5F6D-4B2F-ADE8-BA1B37CB4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5E283-2AF3-489E-BBC8-897225702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74646-8480-4A20-B5B8-41DDE77C5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18245-F391-4C63-97C3-936DEA5C8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206000" y="3157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8610C-22B4-4A73-A341-0F43651BD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92E36-A158-46BD-86DC-09902DB2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1A73-ED2A-4BDC-AD7D-5ED18B02E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C9703-BD44-4520-9415-6509F68F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1BB8D-3019-449D-A8A3-5B44D09E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3F22D-110C-49B5-A092-5B4956D87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287AB-2A54-4358-8891-62EB8ED8B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32100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96736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7464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32100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96736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FAC9E-6BEB-4A05-82D0-BB63A0E87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37F9-240C-4B25-827B-59FDE1072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1970-D4E7-49F4-AB84-05ABB0C0C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2C17-D39D-4BB9-B84A-0370570D0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206000" y="3157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2691-2E09-4398-82FC-9D2579DDD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0CBE-6DB0-444F-BF06-7999C382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40CE-C89A-4874-A874-D8507E1C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8791-C51E-4991-9FF4-8B1C5B2C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rot="6480000">
            <a:off x="729720" y="1488600"/>
            <a:ext cx="901800" cy="901800"/>
          </a:xfrm>
          <a:prstGeom prst="rtTriangle">
            <a:avLst/>
          </a:prstGeom>
          <a:noFill/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66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6666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6145200"/>
            <a:ext cx="1371600" cy="7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67616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371240" y="6477120"/>
            <a:ext cx="304920" cy="3808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txBody>
          <a:bodyPr lIns="92160" rIns="92160" tIns="46080" bIns="46080" anchor="b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8A116-9D73-4653-8DD2-AB5F52177B13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3953520" y="1539000"/>
            <a:ext cx="5415480" cy="5886720"/>
            <a:chOff x="3953520" y="1539000"/>
            <a:chExt cx="5415480" cy="5886720"/>
          </a:xfrm>
        </p:grpSpPr>
        <p:sp>
          <p:nvSpPr>
            <p:cNvPr id="7" name=""/>
            <p:cNvSpPr/>
            <p:nvPr/>
          </p:nvSpPr>
          <p:spPr>
            <a:xfrm flipH="1" rot="13500000">
              <a:off x="7068600" y="600084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6200000">
              <a:off x="7478640" y="5268240"/>
              <a:ext cx="1361880" cy="135288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853400" y="4146480"/>
              <a:ext cx="1282680" cy="1282680"/>
            </a:xfrm>
            <a:prstGeom prst="diamond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rot="13500000">
              <a:off x="4365720" y="5022360"/>
              <a:ext cx="1990800" cy="199080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8100000">
              <a:off x="5906880" y="396072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grpSp>
          <p:nvGrpSpPr>
            <p:cNvPr id="12" name=""/>
            <p:cNvGrpSpPr/>
            <p:nvPr/>
          </p:nvGrpSpPr>
          <p:grpSpPr>
            <a:xfrm>
              <a:off x="6959520" y="3466800"/>
              <a:ext cx="638280" cy="1902240"/>
              <a:chOff x="6959520" y="3466800"/>
              <a:chExt cx="638280" cy="1902240"/>
            </a:xfrm>
          </p:grpSpPr>
          <p:sp>
            <p:nvSpPr>
              <p:cNvPr id="13" name=""/>
              <p:cNvSpPr/>
              <p:nvPr/>
            </p:nvSpPr>
            <p:spPr>
              <a:xfrm>
                <a:off x="7594560" y="3483000"/>
                <a:ext cx="0" cy="124452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966000" y="4098960"/>
                <a:ext cx="0" cy="12700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V="1">
                <a:off x="6966000" y="4730400"/>
                <a:ext cx="631800" cy="63180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V="1">
                <a:off x="6959520" y="3466800"/>
                <a:ext cx="638280" cy="6382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sp>
          <p:nvSpPr>
            <p:cNvPr id="17" name=""/>
            <p:cNvSpPr/>
            <p:nvPr/>
          </p:nvSpPr>
          <p:spPr>
            <a:xfrm rot="18900000">
              <a:off x="6965640" y="1951200"/>
              <a:ext cx="1990800" cy="1990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953520" y="1539000"/>
            <a:ext cx="5415480" cy="5886720"/>
            <a:chOff x="3953520" y="1539000"/>
            <a:chExt cx="5415480" cy="5886720"/>
          </a:xfrm>
        </p:grpSpPr>
        <p:sp>
          <p:nvSpPr>
            <p:cNvPr id="55" name=""/>
            <p:cNvSpPr/>
            <p:nvPr/>
          </p:nvSpPr>
          <p:spPr>
            <a:xfrm flipH="1" rot="13500000">
              <a:off x="7068600" y="600084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6200000">
              <a:off x="7478640" y="5268240"/>
              <a:ext cx="1361880" cy="135288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853400" y="4146480"/>
              <a:ext cx="1282680" cy="1282680"/>
            </a:xfrm>
            <a:prstGeom prst="diamond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3500000">
              <a:off x="4365720" y="5022360"/>
              <a:ext cx="1990800" cy="199080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 rot="8100000">
              <a:off x="5906880" y="396072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6959520" y="3466800"/>
              <a:ext cx="638280" cy="1902240"/>
              <a:chOff x="6959520" y="3466800"/>
              <a:chExt cx="638280" cy="1902240"/>
            </a:xfrm>
          </p:grpSpPr>
          <p:sp>
            <p:nvSpPr>
              <p:cNvPr id="61" name=""/>
              <p:cNvSpPr/>
              <p:nvPr/>
            </p:nvSpPr>
            <p:spPr>
              <a:xfrm>
                <a:off x="7594560" y="3483000"/>
                <a:ext cx="0" cy="124452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6966000" y="4098960"/>
                <a:ext cx="0" cy="12700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V="1">
                <a:off x="6966000" y="4730400"/>
                <a:ext cx="631800" cy="63180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V="1">
                <a:off x="6959520" y="3466800"/>
                <a:ext cx="638280" cy="6382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 rot="18900000">
              <a:off x="6965640" y="1951200"/>
              <a:ext cx="1990800" cy="1990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66ff"/>
                </a:solidFill>
                <a:latin typeface="Arial Black"/>
              </a:rPr>
              <a:t>Click to edit the title text format</a:t>
            </a:r>
            <a:endParaRPr b="0" lang="en-US" sz="6600" spc="-1" strike="noStrike">
              <a:solidFill>
                <a:srgbClr val="6666ff"/>
              </a:solidFill>
              <a:latin typeface="Arial Black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3344760" y="2457360"/>
            <a:ext cx="5450040" cy="4683960"/>
            <a:chOff x="3344760" y="2457360"/>
            <a:chExt cx="5450040" cy="4683960"/>
          </a:xfrm>
        </p:grpSpPr>
        <p:sp>
          <p:nvSpPr>
            <p:cNvPr id="68" name=""/>
            <p:cNvSpPr/>
            <p:nvPr/>
          </p:nvSpPr>
          <p:spPr>
            <a:xfrm>
              <a:off x="7512120" y="3355920"/>
              <a:ext cx="1282680" cy="1282680"/>
            </a:xfrm>
            <a:prstGeom prst="diamond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446880" y="3071880"/>
              <a:ext cx="639720" cy="1892160"/>
            </a:xfrm>
            <a:custGeom>
              <a:avLst/>
              <a:gdLst/>
              <a:ahLst/>
              <a:rect l="l" t="t" r="r" b="b"/>
              <a:pathLst>
                <a:path w="403" h="1192">
                  <a:moveTo>
                    <a:pt x="399" y="0"/>
                  </a:moveTo>
                  <a:lnTo>
                    <a:pt x="0" y="399"/>
                  </a:lnTo>
                  <a:lnTo>
                    <a:pt x="0" y="1191"/>
                  </a:lnTo>
                  <a:lnTo>
                    <a:pt x="402" y="789"/>
                  </a:lnTo>
                  <a:lnTo>
                    <a:pt x="399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rot="18900000">
              <a:off x="4011120" y="4175280"/>
              <a:ext cx="1990800" cy="19904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rot="13500000">
              <a:off x="6050520" y="6052680"/>
              <a:ext cx="901800" cy="901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7021440" y="4646520"/>
              <a:ext cx="1362240" cy="13528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rot="10800000">
              <a:off x="3344760" y="2457360"/>
              <a:ext cx="1990800" cy="1990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8100000">
              <a:off x="5412240" y="4289040"/>
              <a:ext cx="901800" cy="901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6588000" y="5181480"/>
            <a:ext cx="2556000" cy="381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0" y="6145200"/>
            <a:ext cx="1371600" cy="7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167616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1371240" y="6477120"/>
            <a:ext cx="304920" cy="3808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txBody>
          <a:bodyPr lIns="92160" rIns="92160" tIns="46080" bIns="46080" anchor="b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3ABCA-B407-43B2-8E02-A14B125BC500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ff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ff"/>
              </a:buClr>
              <a:buSzPct val="65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66ff"/>
                </a:solidFill>
                <a:latin typeface="Arial Black"/>
              </a:rPr>
              <a:t>Creativity</a:t>
            </a:r>
            <a:br>
              <a:rPr sz="6600"/>
            </a:b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Session</a:t>
            </a:r>
            <a:endParaRPr b="0" lang="en-US" sz="4800" spc="-1" strike="noStrike">
              <a:solidFill>
                <a:srgbClr val="6666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876560" y="4733640"/>
            <a:ext cx="4259160" cy="377640"/>
          </a:xfrm>
          <a:prstGeom prst="rect">
            <a:avLst/>
          </a:prstGeom>
          <a:solidFill>
            <a:srgbClr val="6666ff"/>
          </a:solidFill>
          <a:ln w="12600">
            <a:solidFill>
              <a:srgbClr val="6666ff"/>
            </a:solidFill>
            <a:miter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er’s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Agenda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Brainstorming objectives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Rules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Brainstorming activities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ummarize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7646760" y="4708080"/>
            <a:ext cx="1339920" cy="2008800"/>
            <a:chOff x="7646760" y="4708080"/>
            <a:chExt cx="1339920" cy="2008800"/>
          </a:xfrm>
        </p:grpSpPr>
        <p:sp>
          <p:nvSpPr>
            <p:cNvPr id="121" name=""/>
            <p:cNvSpPr/>
            <p:nvPr/>
          </p:nvSpPr>
          <p:spPr>
            <a:xfrm rot="18900000">
              <a:off x="7891560" y="4889160"/>
              <a:ext cx="323640" cy="320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8100000">
              <a:off x="7814880" y="4811040"/>
              <a:ext cx="495360" cy="4921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74080" y="6051600"/>
              <a:ext cx="457200" cy="457200"/>
            </a:xfrm>
            <a:prstGeom prst="diamond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16200000">
              <a:off x="7938720" y="5678280"/>
              <a:ext cx="714600" cy="7272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8112240" y="6396120"/>
              <a:ext cx="312480" cy="317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8100000">
              <a:off x="7794000" y="5334120"/>
              <a:ext cx="716040" cy="7142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667720" y="6084720"/>
              <a:ext cx="318960" cy="632160"/>
            </a:xfrm>
            <a:custGeom>
              <a:avLst/>
              <a:gdLst/>
              <a:ahLst/>
              <a:rect l="l" t="t" r="r" b="b"/>
              <a:pathLst>
                <a:path w="201" h="398">
                  <a:moveTo>
                    <a:pt x="0" y="0"/>
                  </a:moveTo>
                  <a:lnTo>
                    <a:pt x="0" y="199"/>
                  </a:lnTo>
                  <a:lnTo>
                    <a:pt x="200" y="397"/>
                  </a:lnTo>
                  <a:lnTo>
                    <a:pt x="200" y="196"/>
                  </a:lnTo>
                  <a:lnTo>
                    <a:pt x="0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transition spd="slow">
    <p:wipe dir="l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Overview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Quick overview of what this meeting is all abou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What to expect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240320" y="4693320"/>
            <a:ext cx="1732320" cy="2391120"/>
            <a:chOff x="7240320" y="4693320"/>
            <a:chExt cx="1732320" cy="2391120"/>
          </a:xfrm>
        </p:grpSpPr>
        <p:sp>
          <p:nvSpPr>
            <p:cNvPr id="131" name=""/>
            <p:cNvSpPr/>
            <p:nvPr/>
          </p:nvSpPr>
          <p:spPr>
            <a:xfrm flipH="1" rot="18900000">
              <a:off x="7305480" y="4771800"/>
              <a:ext cx="320760" cy="317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rot="13500000">
              <a:off x="7733880" y="6500520"/>
              <a:ext cx="486360" cy="4824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467480" y="4924440"/>
              <a:ext cx="457200" cy="457200"/>
            </a:xfrm>
            <a:prstGeom prst="diamond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 rot="5400000">
              <a:off x="7601760" y="5292720"/>
              <a:ext cx="714240" cy="7110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rot="8100000">
              <a:off x="7769160" y="4760280"/>
              <a:ext cx="320760" cy="317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10800000">
              <a:off x="7598880" y="6018120"/>
              <a:ext cx="716040" cy="712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323200" y="6411960"/>
              <a:ext cx="649440" cy="323640"/>
            </a:xfrm>
            <a:custGeom>
              <a:avLst/>
              <a:gdLst/>
              <a:ahLst/>
              <a:rect l="l" t="t" r="r" b="b"/>
              <a:pathLst>
                <a:path w="409" h="204">
                  <a:moveTo>
                    <a:pt x="408" y="0"/>
                  </a:moveTo>
                  <a:lnTo>
                    <a:pt x="203" y="0"/>
                  </a:lnTo>
                  <a:lnTo>
                    <a:pt x="0" y="203"/>
                  </a:lnTo>
                  <a:lnTo>
                    <a:pt x="206" y="203"/>
                  </a:lnTo>
                  <a:lnTo>
                    <a:pt x="408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transition spd="slow">
    <p:wipe dir="l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Brainstorming Objectives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Describe the objective(s) of the exercise: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New product or service ideas?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New feature ideas?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Feature/product naming?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Promotion ideas?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New process for doing something?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Define top requirements or restrictions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7230960" y="5454360"/>
            <a:ext cx="1769400" cy="1254240"/>
            <a:chOff x="7230960" y="5454360"/>
            <a:chExt cx="1769400" cy="1254240"/>
          </a:xfrm>
        </p:grpSpPr>
        <p:sp>
          <p:nvSpPr>
            <p:cNvPr id="141" name=""/>
            <p:cNvSpPr/>
            <p:nvPr/>
          </p:nvSpPr>
          <p:spPr>
            <a:xfrm flipH="1" rot="10800000">
              <a:off x="8553960" y="6384600"/>
              <a:ext cx="328680" cy="3142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 rot="4320000">
              <a:off x="7376760" y="5548320"/>
              <a:ext cx="714240" cy="7142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230960" y="6381720"/>
              <a:ext cx="649440" cy="326880"/>
            </a:xfrm>
            <a:custGeom>
              <a:avLst/>
              <a:gdLst/>
              <a:ahLst/>
              <a:rect l="l" t="t" r="r" b="b"/>
              <a:pathLst>
                <a:path w="409" h="206">
                  <a:moveTo>
                    <a:pt x="0" y="0"/>
                  </a:moveTo>
                  <a:lnTo>
                    <a:pt x="204" y="0"/>
                  </a:lnTo>
                  <a:lnTo>
                    <a:pt x="408" y="205"/>
                  </a:lnTo>
                  <a:lnTo>
                    <a:pt x="201" y="205"/>
                  </a:lnTo>
                  <a:lnTo>
                    <a:pt x="0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23120" y="6384960"/>
              <a:ext cx="319320" cy="31572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 rot="4320000">
              <a:off x="8193960" y="5547600"/>
              <a:ext cx="714240" cy="712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18900000">
              <a:off x="7656120" y="6149520"/>
              <a:ext cx="460440" cy="4604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6200000">
              <a:off x="7893000" y="6386040"/>
              <a:ext cx="314280" cy="3142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transition spd="slow">
    <p:wipe dir="l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Rules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No idea is a bad idea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Be creative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ake risks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No criticism allowed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7648200" y="4478400"/>
            <a:ext cx="1010520" cy="2254320"/>
            <a:chOff x="7648200" y="4478400"/>
            <a:chExt cx="1010520" cy="2254320"/>
          </a:xfrm>
        </p:grpSpPr>
        <p:sp>
          <p:nvSpPr>
            <p:cNvPr id="151" name=""/>
            <p:cNvSpPr/>
            <p:nvPr/>
          </p:nvSpPr>
          <p:spPr>
            <a:xfrm rot="2700000">
              <a:off x="7995960" y="5829480"/>
              <a:ext cx="320400" cy="320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13500000">
              <a:off x="7953120" y="4603680"/>
              <a:ext cx="486000" cy="4856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13500000">
              <a:off x="7796160" y="5663880"/>
              <a:ext cx="714240" cy="7146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13500000">
              <a:off x="7767360" y="6062040"/>
              <a:ext cx="317520" cy="320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6200000">
              <a:off x="7943760" y="6019920"/>
              <a:ext cx="711360" cy="7142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821720" y="4478400"/>
              <a:ext cx="325440" cy="649080"/>
            </a:xfrm>
            <a:custGeom>
              <a:avLst/>
              <a:gdLst/>
              <a:ahLst/>
              <a:rect l="l" t="t" r="r" b="b"/>
              <a:pathLst>
                <a:path w="205" h="409">
                  <a:moveTo>
                    <a:pt x="0" y="0"/>
                  </a:moveTo>
                  <a:lnTo>
                    <a:pt x="0" y="205"/>
                  </a:lnTo>
                  <a:lnTo>
                    <a:pt x="204" y="408"/>
                  </a:lnTo>
                  <a:lnTo>
                    <a:pt x="204" y="202"/>
                  </a:lnTo>
                  <a:lnTo>
                    <a:pt x="0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832880" y="5180040"/>
              <a:ext cx="317520" cy="31104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transition spd="slow">
    <p:wipe dir="l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Brainstorming Activity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Generate ideas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Use games and exercises to “warm up” your creative thinking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When ideas slow down, try another exercise to generate fresh idea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Breaking into smaller groups may be helpful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Use a computer to capture every comment/idea (in Microsoft PowerPoint, of course, using Meeting Minder)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7259760" y="5328720"/>
            <a:ext cx="1726920" cy="1543680"/>
            <a:chOff x="7259760" y="5328720"/>
            <a:chExt cx="1726920" cy="1543680"/>
          </a:xfrm>
        </p:grpSpPr>
        <p:sp>
          <p:nvSpPr>
            <p:cNvPr id="161" name=""/>
            <p:cNvSpPr/>
            <p:nvPr/>
          </p:nvSpPr>
          <p:spPr>
            <a:xfrm flipH="1">
              <a:off x="7259760" y="5997600"/>
              <a:ext cx="325440" cy="3222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18900000">
              <a:off x="7467120" y="6141600"/>
              <a:ext cx="498600" cy="4953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13500000">
              <a:off x="7591680" y="5484960"/>
              <a:ext cx="746280" cy="7318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7583400" y="5688000"/>
              <a:ext cx="324000" cy="320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 rot="13500000">
              <a:off x="8123760" y="6009480"/>
              <a:ext cx="714240" cy="7149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729560" y="6391440"/>
              <a:ext cx="657360" cy="347400"/>
            </a:xfrm>
            <a:custGeom>
              <a:avLst/>
              <a:gdLst/>
              <a:ahLst/>
              <a:rect l="l" t="t" r="r" b="b"/>
              <a:pathLst>
                <a:path w="414" h="219">
                  <a:moveTo>
                    <a:pt x="0" y="218"/>
                  </a:moveTo>
                  <a:lnTo>
                    <a:pt x="207" y="217"/>
                  </a:lnTo>
                  <a:lnTo>
                    <a:pt x="413" y="0"/>
                  </a:lnTo>
                  <a:lnTo>
                    <a:pt x="203" y="0"/>
                  </a:lnTo>
                  <a:lnTo>
                    <a:pt x="0" y="218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94560" y="6008760"/>
              <a:ext cx="317520" cy="31104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transition spd="slow">
    <p:wipe dir="l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Summarize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Review ideas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Vote on top candidates and consolidate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heck requirements and restrictions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rim list to top 5-10 ideas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581960" y="5203800"/>
            <a:ext cx="1411200" cy="2067840"/>
            <a:chOff x="7581960" y="5203800"/>
            <a:chExt cx="1411200" cy="2067840"/>
          </a:xfrm>
        </p:grpSpPr>
        <p:sp>
          <p:nvSpPr>
            <p:cNvPr id="171" name=""/>
            <p:cNvSpPr/>
            <p:nvPr/>
          </p:nvSpPr>
          <p:spPr>
            <a:xfrm flipH="1" rot="2700000">
              <a:off x="8366760" y="6143760"/>
              <a:ext cx="506160" cy="5126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rot="13500000">
              <a:off x="7776360" y="6409080"/>
              <a:ext cx="715680" cy="7138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rot="16200000">
              <a:off x="8153640" y="5205240"/>
              <a:ext cx="324000" cy="320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5400000">
              <a:off x="8272440" y="5668920"/>
              <a:ext cx="714240" cy="7272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8100000">
              <a:off x="8114040" y="5757120"/>
              <a:ext cx="319320" cy="3128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581960" y="5911920"/>
              <a:ext cx="687240" cy="234720"/>
            </a:xfrm>
            <a:custGeom>
              <a:avLst/>
              <a:gdLst/>
              <a:ahLst/>
              <a:rect l="l" t="t" r="r" b="b"/>
              <a:pathLst>
                <a:path w="433" h="148">
                  <a:moveTo>
                    <a:pt x="0" y="0"/>
                  </a:moveTo>
                  <a:lnTo>
                    <a:pt x="143" y="145"/>
                  </a:lnTo>
                  <a:lnTo>
                    <a:pt x="432" y="147"/>
                  </a:lnTo>
                  <a:lnTo>
                    <a:pt x="286" y="0"/>
                  </a:lnTo>
                  <a:lnTo>
                    <a:pt x="0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985160" y="5261040"/>
              <a:ext cx="457200" cy="457200"/>
            </a:xfrm>
            <a:prstGeom prst="diamond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transition spd="slow">
    <p:wipe dir="l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Next Steps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Describe what happens next: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Research the ideas generated?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Follow up with larger group?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Generate action items for follow-up: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tart turning ideas into reality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6802560" y="5094360"/>
            <a:ext cx="2161080" cy="1683720"/>
            <a:chOff x="6802560" y="5094360"/>
            <a:chExt cx="2161080" cy="1683720"/>
          </a:xfrm>
        </p:grpSpPr>
        <p:sp>
          <p:nvSpPr>
            <p:cNvPr id="181" name=""/>
            <p:cNvSpPr/>
            <p:nvPr/>
          </p:nvSpPr>
          <p:spPr>
            <a:xfrm flipH="1" rot="1200000">
              <a:off x="7522560" y="6213240"/>
              <a:ext cx="317520" cy="317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8100000">
              <a:off x="6901920" y="5195160"/>
              <a:ext cx="486000" cy="482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8100000">
              <a:off x="8109720" y="5925960"/>
              <a:ext cx="708120" cy="7048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 rot="17280000">
              <a:off x="8219880" y="6362640"/>
              <a:ext cx="320760" cy="3204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18900000">
              <a:off x="7605720" y="5401800"/>
              <a:ext cx="714240" cy="7146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9040" y="5767560"/>
              <a:ext cx="649440" cy="347400"/>
            </a:xfrm>
            <a:custGeom>
              <a:avLst/>
              <a:gdLst/>
              <a:ahLst/>
              <a:rect l="l" t="t" r="r" b="b"/>
              <a:pathLst>
                <a:path w="409" h="219">
                  <a:moveTo>
                    <a:pt x="408" y="218"/>
                  </a:moveTo>
                  <a:lnTo>
                    <a:pt x="203" y="217"/>
                  </a:lnTo>
                  <a:lnTo>
                    <a:pt x="0" y="0"/>
                  </a:lnTo>
                  <a:lnTo>
                    <a:pt x="206" y="0"/>
                  </a:lnTo>
                  <a:lnTo>
                    <a:pt x="408" y="218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162920" y="5433840"/>
              <a:ext cx="315720" cy="31140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transition spd="slow">
    <p:wipe dir="l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2418840" y="1329120"/>
            <a:ext cx="1757520" cy="1330200"/>
            <a:chOff x="2418840" y="1329120"/>
            <a:chExt cx="1757520" cy="1330200"/>
          </a:xfrm>
        </p:grpSpPr>
        <p:sp>
          <p:nvSpPr>
            <p:cNvPr id="189" name=""/>
            <p:cNvSpPr/>
            <p:nvPr/>
          </p:nvSpPr>
          <p:spPr>
            <a:xfrm rot="2700000">
              <a:off x="3402360" y="1855440"/>
              <a:ext cx="641160" cy="641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rot="2700000">
              <a:off x="2482560" y="2282400"/>
              <a:ext cx="314280" cy="3110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18900000">
              <a:off x="3478320" y="1395000"/>
              <a:ext cx="322200" cy="32724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6200000">
              <a:off x="2617920" y="1982880"/>
              <a:ext cx="444240" cy="4442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063960" y="1978200"/>
              <a:ext cx="642960" cy="6444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13500000">
              <a:off x="3560760" y="2257200"/>
              <a:ext cx="317520" cy="3146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718080" y="1716120"/>
              <a:ext cx="215640" cy="689040"/>
            </a:xfrm>
            <a:custGeom>
              <a:avLst/>
              <a:gdLst/>
              <a:ahLst/>
              <a:rect l="l" t="t" r="r" b="b"/>
              <a:pathLst>
                <a:path w="136" h="434">
                  <a:moveTo>
                    <a:pt x="135" y="433"/>
                  </a:moveTo>
                  <a:lnTo>
                    <a:pt x="135" y="135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97"/>
                  </a:lnTo>
                  <a:lnTo>
                    <a:pt x="4" y="301"/>
                  </a:lnTo>
                  <a:lnTo>
                    <a:pt x="135" y="432"/>
                  </a:lnTo>
                  <a:lnTo>
                    <a:pt x="135" y="433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1008000" y="515880"/>
            <a:ext cx="836280" cy="2146320"/>
            <a:chOff x="1008000" y="515880"/>
            <a:chExt cx="836280" cy="2146320"/>
          </a:xfrm>
        </p:grpSpPr>
        <p:sp>
          <p:nvSpPr>
            <p:cNvPr id="197" name=""/>
            <p:cNvSpPr/>
            <p:nvPr/>
          </p:nvSpPr>
          <p:spPr>
            <a:xfrm>
              <a:off x="1432080" y="2008080"/>
              <a:ext cx="322200" cy="32544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0800000">
              <a:off x="1193760" y="515880"/>
              <a:ext cx="642960" cy="6429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10800000">
              <a:off x="1398240" y="1669680"/>
              <a:ext cx="446040" cy="4460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6200000">
              <a:off x="1009800" y="1007640"/>
              <a:ext cx="641160" cy="644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339920" y="660240"/>
              <a:ext cx="317520" cy="3160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1382040" y="2351160"/>
              <a:ext cx="314280" cy="3110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79640" y="1660680"/>
              <a:ext cx="639720" cy="336240"/>
            </a:xfrm>
            <a:custGeom>
              <a:avLst/>
              <a:gdLst/>
              <a:ahLst/>
              <a:rect l="l" t="t" r="r" b="b"/>
              <a:pathLst>
                <a:path w="403" h="212">
                  <a:moveTo>
                    <a:pt x="0" y="0"/>
                  </a:moveTo>
                  <a:lnTo>
                    <a:pt x="211" y="211"/>
                  </a:lnTo>
                  <a:lnTo>
                    <a:pt x="402" y="211"/>
                  </a:lnTo>
                  <a:lnTo>
                    <a:pt x="399" y="208"/>
                  </a:lnTo>
                  <a:lnTo>
                    <a:pt x="192" y="1"/>
                  </a:lnTo>
                  <a:lnTo>
                    <a:pt x="186" y="1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638600" y="1415880"/>
            <a:ext cx="1453320" cy="1735920"/>
            <a:chOff x="4638600" y="1415880"/>
            <a:chExt cx="1453320" cy="1735920"/>
          </a:xfrm>
        </p:grpSpPr>
        <p:sp>
          <p:nvSpPr>
            <p:cNvPr id="205" name=""/>
            <p:cNvSpPr/>
            <p:nvPr/>
          </p:nvSpPr>
          <p:spPr>
            <a:xfrm>
              <a:off x="4648320" y="1731960"/>
              <a:ext cx="322200" cy="32688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2700000">
              <a:off x="5317920" y="1869840"/>
              <a:ext cx="641160" cy="6411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18900000">
              <a:off x="5092200" y="1507680"/>
              <a:ext cx="444600" cy="4446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8100000">
              <a:off x="4784040" y="2374920"/>
              <a:ext cx="641160" cy="6444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986360" y="1728720"/>
              <a:ext cx="317520" cy="3142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rot="10800000">
              <a:off x="4648320" y="2063520"/>
              <a:ext cx="311040" cy="3142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638600" y="2048040"/>
              <a:ext cx="344520" cy="639720"/>
            </a:xfrm>
            <a:custGeom>
              <a:avLst/>
              <a:gdLst/>
              <a:ahLst/>
              <a:rect l="l" t="t" r="r" b="b"/>
              <a:pathLst>
                <a:path w="217" h="403">
                  <a:moveTo>
                    <a:pt x="0" y="402"/>
                  </a:moveTo>
                  <a:lnTo>
                    <a:pt x="216" y="191"/>
                  </a:lnTo>
                  <a:lnTo>
                    <a:pt x="216" y="0"/>
                  </a:lnTo>
                  <a:lnTo>
                    <a:pt x="213" y="3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0" y="401"/>
                  </a:lnTo>
                  <a:lnTo>
                    <a:pt x="0" y="402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6210360" y="1368360"/>
            <a:ext cx="1297080" cy="1611360"/>
            <a:chOff x="6210360" y="1368360"/>
            <a:chExt cx="1297080" cy="1611360"/>
          </a:xfrm>
        </p:grpSpPr>
        <p:sp>
          <p:nvSpPr>
            <p:cNvPr id="213" name=""/>
            <p:cNvSpPr/>
            <p:nvPr/>
          </p:nvSpPr>
          <p:spPr>
            <a:xfrm flipH="1" rot="13500000">
              <a:off x="6636960" y="2443320"/>
              <a:ext cx="444600" cy="4442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856560" y="2023920"/>
              <a:ext cx="322200" cy="32724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865920" y="1368360"/>
              <a:ext cx="641520" cy="641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16200000">
              <a:off x="6211800" y="1375920"/>
              <a:ext cx="641160" cy="6444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10800000">
              <a:off x="6860880" y="2340000"/>
              <a:ext cx="322200" cy="3189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 rot="10800000">
              <a:off x="6525000" y="2023920"/>
              <a:ext cx="311400" cy="3146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524640" y="2021040"/>
              <a:ext cx="334800" cy="639720"/>
            </a:xfrm>
            <a:custGeom>
              <a:avLst/>
              <a:gdLst/>
              <a:ahLst/>
              <a:rect l="l" t="t" r="r" b="b"/>
              <a:pathLst>
                <a:path w="211" h="403">
                  <a:moveTo>
                    <a:pt x="0" y="402"/>
                  </a:moveTo>
                  <a:lnTo>
                    <a:pt x="210" y="191"/>
                  </a:lnTo>
                  <a:lnTo>
                    <a:pt x="210" y="0"/>
                  </a:lnTo>
                  <a:lnTo>
                    <a:pt x="208" y="3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0" y="401"/>
                  </a:lnTo>
                  <a:lnTo>
                    <a:pt x="0" y="402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1001880" y="3641400"/>
            <a:ext cx="1450800" cy="1122840"/>
            <a:chOff x="1001880" y="3641400"/>
            <a:chExt cx="1450800" cy="1122840"/>
          </a:xfrm>
        </p:grpSpPr>
        <p:sp>
          <p:nvSpPr>
            <p:cNvPr id="221" name=""/>
            <p:cNvSpPr/>
            <p:nvPr/>
          </p:nvSpPr>
          <p:spPr>
            <a:xfrm flipH="1">
              <a:off x="1231200" y="3741840"/>
              <a:ext cx="446040" cy="4460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31920" y="4203720"/>
              <a:ext cx="322200" cy="32688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13500000">
              <a:off x="1365120" y="3777840"/>
              <a:ext cx="641520" cy="641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16200000">
              <a:off x="1479240" y="4111560"/>
              <a:ext cx="650880" cy="6476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10800000">
              <a:off x="1690200" y="3641400"/>
              <a:ext cx="306360" cy="307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 rot="5400000">
              <a:off x="2139840" y="4104720"/>
              <a:ext cx="314280" cy="3110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001880" y="4546440"/>
              <a:ext cx="687240" cy="217800"/>
            </a:xfrm>
            <a:custGeom>
              <a:avLst/>
              <a:gdLst/>
              <a:ahLst/>
              <a:rect l="l" t="t" r="r" b="b"/>
              <a:pathLst>
                <a:path w="433" h="137">
                  <a:moveTo>
                    <a:pt x="0" y="136"/>
                  </a:moveTo>
                  <a:lnTo>
                    <a:pt x="297" y="135"/>
                  </a:lnTo>
                  <a:lnTo>
                    <a:pt x="432" y="0"/>
                  </a:lnTo>
                  <a:lnTo>
                    <a:pt x="429" y="1"/>
                  </a:lnTo>
                  <a:lnTo>
                    <a:pt x="135" y="0"/>
                  </a:lnTo>
                  <a:lnTo>
                    <a:pt x="131" y="4"/>
                  </a:lnTo>
                  <a:lnTo>
                    <a:pt x="0" y="135"/>
                  </a:lnTo>
                  <a:lnTo>
                    <a:pt x="0" y="136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2863800" y="3660480"/>
            <a:ext cx="1292400" cy="1092600"/>
            <a:chOff x="2863800" y="3660480"/>
            <a:chExt cx="1292400" cy="1092600"/>
          </a:xfrm>
        </p:grpSpPr>
        <p:sp>
          <p:nvSpPr>
            <p:cNvPr id="229" name=""/>
            <p:cNvSpPr/>
            <p:nvPr/>
          </p:nvSpPr>
          <p:spPr>
            <a:xfrm>
              <a:off x="3833640" y="4425840"/>
              <a:ext cx="322560" cy="32724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8100000">
              <a:off x="3036600" y="3793680"/>
              <a:ext cx="644400" cy="644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10800000">
              <a:off x="3173400" y="4108320"/>
              <a:ext cx="644400" cy="641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16200000">
              <a:off x="2879640" y="4428720"/>
              <a:ext cx="314280" cy="317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 rot="5400000">
              <a:off x="3512880" y="4425480"/>
              <a:ext cx="320760" cy="317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863800" y="4091040"/>
              <a:ext cx="639720" cy="334800"/>
            </a:xfrm>
            <a:custGeom>
              <a:avLst/>
              <a:gdLst/>
              <a:ahLst/>
              <a:rect l="l" t="t" r="r" b="b"/>
              <a:pathLst>
                <a:path w="403" h="211">
                  <a:moveTo>
                    <a:pt x="0" y="0"/>
                  </a:moveTo>
                  <a:lnTo>
                    <a:pt x="211" y="210"/>
                  </a:lnTo>
                  <a:lnTo>
                    <a:pt x="402" y="210"/>
                  </a:lnTo>
                  <a:lnTo>
                    <a:pt x="399" y="208"/>
                  </a:lnTo>
                  <a:lnTo>
                    <a:pt x="192" y="0"/>
                  </a:lnTo>
                  <a:lnTo>
                    <a:pt x="186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 flipH="1" rot="18900000">
            <a:off x="2650680" y="4211640"/>
            <a:ext cx="446040" cy="446040"/>
          </a:xfrm>
          <a:prstGeom prst="rtTriangle">
            <a:avLst/>
          </a:prstGeom>
          <a:solidFill>
            <a:srgbClr val="669900"/>
          </a:solidFill>
          <a:ln w="1260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4962240" y="3766320"/>
            <a:ext cx="1351080" cy="1477800"/>
            <a:chOff x="4962240" y="3766320"/>
            <a:chExt cx="1351080" cy="1477800"/>
          </a:xfrm>
        </p:grpSpPr>
        <p:sp>
          <p:nvSpPr>
            <p:cNvPr id="237" name=""/>
            <p:cNvSpPr/>
            <p:nvPr/>
          </p:nvSpPr>
          <p:spPr>
            <a:xfrm flipH="1" rot="13500000">
              <a:off x="5511960" y="4468320"/>
              <a:ext cx="644400" cy="641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4962240" y="3766320"/>
              <a:ext cx="1351080" cy="1008720"/>
              <a:chOff x="4962240" y="3766320"/>
              <a:chExt cx="1351080" cy="1008720"/>
            </a:xfrm>
          </p:grpSpPr>
          <p:sp>
            <p:nvSpPr>
              <p:cNvPr id="239" name=""/>
              <p:cNvSpPr/>
              <p:nvPr/>
            </p:nvSpPr>
            <p:spPr>
              <a:xfrm flipH="1" rot="5400000">
                <a:off x="4969080" y="4329000"/>
                <a:ext cx="434880" cy="441360"/>
              </a:xfrm>
              <a:prstGeom prst="rtTriangle">
                <a:avLst/>
              </a:prstGeom>
              <a:solidFill>
                <a:srgbClr val="669900"/>
              </a:solidFill>
              <a:ln w="1260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073480" y="3981600"/>
                <a:ext cx="322560" cy="326880"/>
              </a:xfrm>
              <a:prstGeom prst="rect">
                <a:avLst/>
              </a:prstGeom>
              <a:solidFill>
                <a:srgbClr val="669900"/>
              </a:solidFill>
              <a:ln w="1260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 rot="2700000">
                <a:off x="5095440" y="3986280"/>
                <a:ext cx="644400" cy="644400"/>
              </a:xfrm>
              <a:prstGeom prst="rtTriangle">
                <a:avLst/>
              </a:prstGeom>
              <a:solidFill>
                <a:srgbClr val="669900"/>
              </a:solidFill>
              <a:ln w="1260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8100000">
                <a:off x="5076360" y="3830760"/>
                <a:ext cx="314280" cy="317520"/>
              </a:xfrm>
              <a:prstGeom prst="rtTriangle">
                <a:avLst/>
              </a:prstGeom>
              <a:solidFill>
                <a:srgbClr val="669900"/>
              </a:solidFill>
              <a:ln w="1260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 rot="8100000">
                <a:off x="5927040" y="4176360"/>
                <a:ext cx="320400" cy="317520"/>
              </a:xfrm>
              <a:prstGeom prst="rtTriangle">
                <a:avLst/>
              </a:prstGeom>
              <a:solidFill>
                <a:srgbClr val="669900"/>
              </a:solidFill>
              <a:ln w="1260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076800" y="4087800"/>
                <a:ext cx="217800" cy="687240"/>
              </a:xfrm>
              <a:custGeom>
                <a:avLst/>
                <a:gdLst/>
                <a:ahLst/>
                <a:rect l="l" t="t" r="r" b="b"/>
                <a:pathLst>
                  <a:path w="137" h="433">
                    <a:moveTo>
                      <a:pt x="0" y="0"/>
                    </a:moveTo>
                    <a:lnTo>
                      <a:pt x="1" y="297"/>
                    </a:lnTo>
                    <a:lnTo>
                      <a:pt x="136" y="432"/>
                    </a:lnTo>
                    <a:lnTo>
                      <a:pt x="135" y="429"/>
                    </a:lnTo>
                    <a:lnTo>
                      <a:pt x="136" y="135"/>
                    </a:lnTo>
                    <a:lnTo>
                      <a:pt x="132" y="131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9900"/>
              </a:solidFill>
              <a:ln w="12600">
                <a:solidFill>
                  <a:srgbClr val="66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</p:grpSp>
      <p:grpSp>
        <p:nvGrpSpPr>
          <p:cNvPr id="245" name=""/>
          <p:cNvGrpSpPr/>
          <p:nvPr/>
        </p:nvGrpSpPr>
        <p:grpSpPr>
          <a:xfrm>
            <a:off x="6873480" y="3225960"/>
            <a:ext cx="1398960" cy="1531440"/>
            <a:chOff x="6873480" y="3225960"/>
            <a:chExt cx="1398960" cy="1531440"/>
          </a:xfrm>
        </p:grpSpPr>
        <p:sp>
          <p:nvSpPr>
            <p:cNvPr id="246" name=""/>
            <p:cNvSpPr/>
            <p:nvPr/>
          </p:nvSpPr>
          <p:spPr>
            <a:xfrm rot="18900000">
              <a:off x="7174080" y="3763440"/>
              <a:ext cx="314280" cy="32076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 rot="2700000">
              <a:off x="7494120" y="3816360"/>
              <a:ext cx="644400" cy="6444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 rot="5400000">
              <a:off x="7345440" y="4108320"/>
              <a:ext cx="644400" cy="641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16200000">
              <a:off x="7005600" y="3225240"/>
              <a:ext cx="314280" cy="317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13500000">
              <a:off x="6940440" y="3995280"/>
              <a:ext cx="324000" cy="3240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331040" y="3225960"/>
              <a:ext cx="217440" cy="685800"/>
            </a:xfrm>
            <a:custGeom>
              <a:avLst/>
              <a:gdLst/>
              <a:ahLst/>
              <a:rect l="l" t="t" r="r" b="b"/>
              <a:pathLst>
                <a:path w="137" h="432">
                  <a:moveTo>
                    <a:pt x="0" y="297"/>
                  </a:moveTo>
                  <a:lnTo>
                    <a:pt x="136" y="431"/>
                  </a:lnTo>
                  <a:lnTo>
                    <a:pt x="135" y="135"/>
                  </a:lnTo>
                  <a:lnTo>
                    <a:pt x="0" y="0"/>
                  </a:lnTo>
                  <a:lnTo>
                    <a:pt x="0" y="297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2700000">
              <a:off x="7133760" y="4241520"/>
              <a:ext cx="426960" cy="4273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1T14:19:16Z</dcterms:created>
  <dc:creator>Bonnie Ritchey</dc:creator>
  <dc:description/>
  <dc:language>en-US</dc:language>
  <cp:lastModifiedBy>Bonnie Ritchey</cp:lastModifiedBy>
  <dcterms:modified xsi:type="dcterms:W3CDTF">2005-01-01T14:19:52Z</dcterms:modified>
  <cp:revision>1</cp:revision>
  <dc:subject/>
  <dc:title>Creativity Sess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4371033</vt:lpwstr>
  </property>
</Properties>
</file>